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70D2-75FC-4C72-9AAF-FC0615B7F6F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AF63-3E1A-4124-AC91-FD1948BF219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BC65-DA24-4A43-8480-331E66CCF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DA6F-25C4-4AC9-9B04-43BA34AE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8A4C-3E16-4682-A0A7-4A3283256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511C-B4F3-4CB3-9C6B-73552D3C5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E9C0-4C15-4015-8D0B-534EBA934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93E7-B7D0-40AC-92E3-DC11EAA6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5FA1-3027-48CE-AC68-D328C910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C9A7-D835-444C-B9E4-F1BDF12A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6926-EE34-4D7D-94A8-9ECF36B0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0F76-EACC-4298-8A8C-DB5CE358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1633-710D-470E-8511-0596D2ED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A0F2-1ED3-49EC-8702-E66630E9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E190-0C7D-41BB-8247-8949D8B2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808A-EB39-4895-AE65-A5AE626B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8BAB-6B7B-439E-BA9C-84030BB8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8F05-79C4-420A-B192-68CAEBA54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98F6-ACBD-4DE3-85D2-430F723BD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FF883-535A-4940-B016-07F16C41A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D6082-CE25-4B11-A731-DBD6BE24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73E40-F3FD-4A75-A03F-C5B9CD9A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F83D6-9FA0-4823-BB3B-2BA1BF26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976FB-ED54-4A51-846F-3B97471D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14C4-8948-42A5-90C9-E5CC7B2E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F18B7-399B-4052-B1F5-7E567178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4F5B5-CE32-45F6-BA65-522271B1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AA1B6-E1F0-4BDE-8FCA-02A83436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63D7C-BCF4-466D-9CB1-5C272626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13EF9-8165-47F6-A4E8-5A09811E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922D3-3DF2-4748-9BD3-DBF17261A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28121-484B-4ADB-869A-6F398DF3F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864B1-B3BF-4F5F-BBC2-25E3F859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A6111-A636-484B-BFD3-0FCE5D8A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8D490-41B2-4D93-9570-B20D6B5E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38D5-1A1A-419D-9806-98036721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88CD7-0C83-4E6C-9F9E-7913F83E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E076F-8743-4FE2-B8C5-237F1984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F77DA-26EF-4BD9-BC8A-A5FB3E95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3DB9A-7343-4714-9BAD-F6D412D8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2D37C-3A4E-47C4-9B96-A4EA6E89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49933-FCCC-47CC-A379-1FD3993E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8B054-7158-4DAF-A8C1-F43975C2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B6B86-869D-4512-96EA-211E52948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8C093-AE63-40BD-BF58-C038B7868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45302-7369-4546-BF54-A702B75C2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A088-D04B-4734-B9B6-980957C8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B804C-A3B5-42E9-9AF8-CE64E1BA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95E70-1D7C-48D3-93FB-24221BE3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3A862-35C4-42B3-8907-DBFFFA5C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C339B-AE3F-4637-911C-E95A6250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6078C-53A3-4B3C-890B-0EBADF48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65495-CE45-4FDA-A7B8-B251828C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B6DE1-3C44-4449-A599-6BF6D5F8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C75E1-1EC8-4F99-AE6A-8C983098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1FE62-652F-4914-9BF4-A10C80CE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CEF3C-82F0-4928-BF57-FB24B6619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62C8-F72D-4021-940C-5B24C955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804F6-3926-4762-B109-9265CEE55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4C103-9C99-44A6-977F-2661BA36D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E0943-AE27-4CEE-B20B-0F83DB9F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5B8C8-0639-4D65-A92D-A4725FF9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6A9A9-E09A-4CD8-8C1E-1BF69928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222A9-52FA-47CD-AABB-12DDB0A8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00E47-16CC-487A-9EB2-AD5FF865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FF75E-1C03-41FA-AA5D-1DFABD02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41475-6356-4329-83B0-6EBAF6F3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CE6A7-43F6-44D0-8BD7-520EB23D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265D-C5CC-478E-8502-92481A67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7FA53-16FB-499C-9850-BBF3BD42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CD615-65D4-4A38-B22B-029627EBD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3B4CF-90FF-4F0E-ADA7-CFA78469F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F7C9F-7BA2-464E-A234-00C2C7EA8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28E72-A8D9-4F93-AAA2-517180EB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6B42A-BF47-4530-A34F-0240B00F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F4E46-07F1-4FEB-833C-5CADFA3F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90E8C-C382-4C39-8C56-8E9D891A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4B466-7A11-437C-94DB-1B3AF91A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5B4A0-084E-4289-AF26-990C8BE5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838E-516C-44C7-AD78-42005EF7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30C20-EE0F-4A02-8CAD-A821A9CC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A9071-4C4E-49C2-B7AF-11561011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64FB0-9875-4EF7-B9A3-FE94B599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0E94B-3633-4478-9AA4-9ABA23298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6ED9F-ED08-4455-87E7-B84297920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2179-C43F-498F-8BE0-AC11161F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C5A3-4DAE-4C25-ADD5-328CAB3BB67F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6A80-0529-4288-A10E-D6E259C88BB3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236C-2124-4C21-BE7D-CBC2AC16C225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6E92-553D-4E64-916D-67A0A7648DFB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D2C6-8AA9-4AA5-B08B-C5AF5C80B271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7CEF-7678-4382-95C3-E17797AE8DD3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51BD-954C-4498-BE22-CE0159C05C30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4 CI43A/IN640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64448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Distribución de Viajes: Método de Furness y Método Gravitacion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Objetivo: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alcular los parámetros de los modelos y realizar estimaciones futuras de la matriz origen-destin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28480" y="185688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sea predecir la distribución de viajes para cierta ciudad intermedia de Chile dividida en cinco grandes zonas. Se tienen los resultados de una encuesta origen-destino para dicha ciudad, de la cual se extrajo la matriz de viajes, y además una predicción de la matriz de costos generalizados y de la generación y atracción de cada zona para el período que se desea predeci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28480" y="1447560"/>
            <a:ext cx="7429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alcule mediante el método de Furness la matriz origen-destino futur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Determine la matriz que se obtiene utilizando el método gravitacional, con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Realice un análisis de sensibilidad para el parámetro beta, es decir,  calcule la matriz con el método gravitacional para diferentes valores de bet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mpare e interprete los resultados obtenidos en los puntos anteriores. Desarrolle y redacte bien sus idea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n entregar los archivos con el siguiente formato: apellido1_apellido2.do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sunto: Taller n°4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ncluir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breve informe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el desarrollo del taller y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archivo .xls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los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cálculos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l punto base se asigna de acuerdo a la presentación y orden de los archiv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9-09-01T19:33:28Z</dcterms:modified>
  <cp:revision>46</cp:revision>
  <dc:subject/>
  <dc:title>Taller I CI43A</dc:title>
</cp:coreProperties>
</file>